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7FE4-80C4-4EB8-96CF-6C2B4931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3799-B59E-4955-B2DF-5B5DC4C2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624B-1A4F-4618-BF3B-7FD5AA21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E95C-F9CE-497E-80F5-83BB1B0B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4E6B-3980-4F48-BB4D-27595FEC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51B-8EC8-4711-A32A-45503E9F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7E6B-DF01-4352-87D8-6E1561A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424-3F2C-4D48-8A62-798CCAF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26BA-1A4E-488F-A59E-983745AC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D19E-C7CC-417C-9CDC-6B1C460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839B-3B6B-431C-B87E-36B08DA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4651-9E87-4354-9538-C827631A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401-EBC8-4B4B-8FCE-DA271A5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803-0444-4F79-8717-BBF8072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0519-FC05-4139-BE13-238ADE1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66F-A636-4001-A2C0-97A92155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0CC6-EE95-4B18-96C7-2604E182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2A7E-3F22-401A-B409-0C1CBF6D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0AE5-FB05-40FE-8AEB-B94ED5B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CDC3-8702-4277-80EC-B32EE05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0F61-4EC3-4E25-B071-30146E02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3C90-9D06-4A98-B9C8-518930A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1169-BC6C-4DAB-BE69-BECE77A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C8A0-A759-4A19-A414-1AA27A0B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E4B-CFC4-4FFC-B637-A77B7B01DF42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31FF-3D7E-4A18-BCAB-390DF5295AE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Tahoma"/>
              </a:rPr>
              <a:t>2013</a:t>
            </a:r>
            <a:r>
              <a:rPr b="0" lang="zh-CN" sz="5400" spc="-1" strike="noStrike">
                <a:solidFill>
                  <a:srgbClr val="ccff99"/>
                </a:solidFill>
                <a:latin typeface="Tahoma"/>
              </a:rPr>
              <a:t>级学年论文任务发布会暨指导教师见面会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47960" y="5409720"/>
            <a:ext cx="4267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6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外语学院日语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-zou</cp:lastModifiedBy>
  <dcterms:modified xsi:type="dcterms:W3CDTF">2016-04-10T13:48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