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AB0-7723-4A40-8C5F-E0537F60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6FA-9529-4AF2-98B8-6723F156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5B4-E4C5-4047-A093-B66426CF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63F-BEF9-4E30-B0F4-7E411F8B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10B5-0F44-4A23-AAE6-38BE1B6D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36CE-9974-4DB6-9475-63CC21A5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AAED-EB24-4822-BC32-F3908E57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7EBC-39FF-447D-BA2F-F2EDB093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2B21-A5F5-46F4-8CC9-BCBCBC72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0A99-6104-49FC-BA9B-03677B59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F2AD-6B0E-4ACD-8930-89E8396C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04C2-2887-4647-B2A3-FA9281C2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4BAF-6BC3-4559-B293-E42D54E8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C1EC-2EA0-4FFE-B2C9-44BC8B06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1A0B-3804-4ACF-BF5B-3669A9D6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43EE-23A9-4871-89E7-97FCA47F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0D50-16DE-4AC8-8BC2-FBA9A56C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322-7BB4-450E-B0E0-D828E4FF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026-D97B-448C-9DA2-4481016C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914-4FB0-48E7-8DFC-52AFAE08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C22-1062-46DF-993F-945BE887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2A7-6821-4F32-B173-4674ED86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484-812C-4D20-81A1-ED5B230C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2DE-A76D-48C9-B6DD-22F3D047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8B01-AA59-4239-8078-986DFE898AA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8E8F-6397-4FBD-95C9-DDA17F76253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宋体"/>
              </a:rPr>
              <a:t>2021</a:t>
            </a:r>
            <a:r>
              <a:rPr b="0" lang="zh-CN" sz="7200" spc="-1" strike="noStrike">
                <a:solidFill>
                  <a:srgbClr val="ffffcc"/>
                </a:solidFill>
                <a:latin typeface="宋体"/>
              </a:rPr>
              <a:t>届毕业论文</a:t>
            </a:r>
            <a:br>
              <a:rPr sz="7200"/>
            </a:br>
            <a:r>
              <a:rPr b="0" lang="zh-CN" sz="7200" spc="-1" strike="noStrike">
                <a:solidFill>
                  <a:srgbClr val="ffffcc"/>
                </a:solidFill>
                <a:latin typeface="宋体"/>
              </a:rPr>
              <a:t>中期检查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43200" y="5445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上海商学院外语学院日语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2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zhang-zou</dc:creator>
  <dc:description/>
  <dc:language>en-US</dc:language>
  <cp:lastModifiedBy>ryx</cp:lastModifiedBy>
  <dcterms:modified xsi:type="dcterms:W3CDTF">2020-11-16T06:03:25Z</dcterms:modified>
  <cp:revision>9</cp:revision>
  <dc:subject/>
  <dc:title>2011级毕业论文任务发布暨导师见面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