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849D-D4D3-45FC-9D86-E8CB33BC2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C058-A70F-43F4-8BA7-4C75C037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271F-09CB-4040-94AE-4060B772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52D4-6776-4AA5-9ED8-21B2F1A5C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BF50-C444-4EF1-A268-61DFF2C6A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3AE4-6EF3-4922-A559-26A920E4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94A5-FE3D-4A5A-95A2-57BA20BF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54CF-3816-4A48-8087-86F326A5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97D6-64E7-442D-AE35-8D617570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7B11-76DF-42BC-A253-0D1FA397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49E8-5082-435B-AB55-E41728E4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39DF-9DEF-43BC-B507-DC317434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59B7-53E4-4D5C-B0E1-F4F390EF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EEB6-6EAB-4679-BC5B-3A82E1C2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1CD2-17FD-40F0-9840-EB42CAED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3AA8-B040-4328-A500-EDF857F6D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CD71-6345-4223-888F-CE70CD52F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7F28-AAFB-4826-B388-7594CADF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0E92-ACC8-4DBE-8C4E-648FAB35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C7D8-033F-4B0C-AFAF-9F884B03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A0FA-8919-488E-A86C-F55557AF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0462-3ACF-44F5-88C4-4BE65E84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8267-3EE5-4682-A507-8A7EE14D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89A9-A08C-4D95-B82F-0F6CE88B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DF48-0AC5-409C-8922-9FF850D9C72D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5796-C1FE-4DE3-B478-480260EFEC95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1412640"/>
            <a:ext cx="8497800" cy="2879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宋体"/>
              </a:rPr>
              <a:t>2021</a:t>
            </a:r>
            <a:r>
              <a:rPr b="0" lang="zh-CN" sz="7200" spc="-1" strike="noStrike">
                <a:solidFill>
                  <a:srgbClr val="ffffcc"/>
                </a:solidFill>
                <a:latin typeface="宋体"/>
              </a:rPr>
              <a:t>届毕业论文任务发布暨导师见面会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43200" y="5445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上海商学院外语学院日语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20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7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zhang-zou</dc:creator>
  <dc:description/>
  <cp:keywords/>
  <dc:language>en-US</dc:language>
  <cp:lastModifiedBy>ryx</cp:lastModifiedBy>
  <dcterms:modified xsi:type="dcterms:W3CDTF">2020-11-16T06:01:58Z</dcterms:modified>
  <cp:revision>7</cp:revision>
  <dc:subject/>
  <dc:title>2011级毕业论文任务发布暨导师见面会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