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162-DC43-45CF-85D3-4934ABE9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FF1-F187-4867-AAEC-EAB823C0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34C-8378-411F-9351-2DD43273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468-315E-449E-A584-894E5EF1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A3A8-A7E0-41F4-AD7F-207FF37E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406D-E601-40D2-95AD-05190CFD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FEDC-5EE3-4354-AD25-83619565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FD2A-D410-47A7-B37E-CB6B27EF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B894-E02D-498D-B064-2CA52B5D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B5AD-9A10-49FA-B137-07FEDA00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24FE-1BCA-44DD-86A9-339538D2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31D-1DD6-413F-BCB7-A2C15266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C949-BCF2-41DB-995F-DC4EF5A2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4726-6715-4C89-83C0-33B1E664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05EE-EB4F-453D-9777-CEFFC4EE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F97B-B32C-4448-A554-F09B8E94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04B1-06D6-4C07-A69F-C0CBB672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80A-4C62-429B-967A-5D011542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A74-9CC9-4524-AC7B-C94687C1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F5F-76EA-4840-B6DC-8312FC02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E71-FD47-4641-AD8F-82532278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23C-9A5B-4B04-AD13-B7057B4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110-3CA4-4C66-BFD2-CBD83496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1E9-EF13-4F18-A790-AA23CCFA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976A-8E9E-450B-A6D9-05E7F431C60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26D9-86D7-48E3-BDD5-3E4682B51BB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宋体"/>
              </a:rPr>
              <a:t>2020</a:t>
            </a:r>
            <a:r>
              <a:rPr b="0" lang="zh-CN" sz="7200" spc="-1" strike="noStrike">
                <a:solidFill>
                  <a:srgbClr val="ffffcc"/>
                </a:solidFill>
                <a:latin typeface="宋体"/>
              </a:rPr>
              <a:t>届毕业论文任务发布暨导师见面会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43200" y="5445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上海商学院外语学院日语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zhang-zou</dc:creator>
  <dc:description/>
  <cp:keywords/>
  <dc:language>en-US</dc:language>
  <cp:lastModifiedBy>hp</cp:lastModifiedBy>
  <dcterms:modified xsi:type="dcterms:W3CDTF">2019-11-19T01:13:47Z</dcterms:modified>
  <cp:revision>6</cp:revision>
  <dc:subject/>
  <dc:title>2011级毕业论文任务发布暨导师见面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