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DAF-0D75-4D08-A1DF-D8B74299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9B0-92AC-48D0-BD1A-43010868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536-A98E-4DB9-8AF7-41D70F55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812-2046-4E80-BCAB-FC1D21A0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A1B7-2A3B-4BE4-8739-FAAB143F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5F3F-B690-4C47-BA3D-C8D674E7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66AA-8DF9-42FE-940A-7B3A807D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B4AF-79D2-4F4C-94C4-570C1A30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73C3-57BA-4E9D-85E5-5F78FD5B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8BAD-8465-47CC-B095-200B20F9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A313-6FCE-495A-8EED-8A5C8F63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C7D-F9E8-42C6-8B02-FBB69CC0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5376-D5D2-4602-A5ED-10C4363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FD6B-31B9-4446-8566-E29D449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D7E6-FC22-4BF2-9064-E089E459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02C1-DBA6-4F78-8959-3DF39ED4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6884-8B28-496F-A473-5D06D84A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FD1-ABC3-42A2-A94B-79998EE6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DD1-901E-470F-B443-134878D4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41B-69F3-4A41-AF98-AE489C7B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F6A-15DE-4C85-9DAB-EFA80D2F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AFC-1D69-451D-9531-B0F880CF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021-6A54-4FD8-A84A-098A82B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EDB-7776-4E03-B6DA-E92C1207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3250-AAD3-4495-9E15-0D816E0E632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E506-39A0-44C0-8F7A-98CD0FEC88E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宋体"/>
              </a:rPr>
              <a:t>2020</a:t>
            </a:r>
            <a:r>
              <a:rPr b="0" lang="zh-CN" sz="7200" spc="-1" strike="noStrike">
                <a:solidFill>
                  <a:srgbClr val="ffffcc"/>
                </a:solidFill>
                <a:latin typeface="宋体"/>
              </a:rPr>
              <a:t>届毕业论文</a:t>
            </a:r>
            <a:br>
              <a:rPr sz="7200"/>
            </a:br>
            <a:r>
              <a:rPr b="0" lang="zh-CN" sz="7200" spc="-1" strike="noStrike">
                <a:solidFill>
                  <a:srgbClr val="ffffcc"/>
                </a:solidFill>
                <a:latin typeface="宋体"/>
              </a:rPr>
              <a:t>中期检查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43200" y="5445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上海商学院外语学院日语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2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zhang-zou</dc:creator>
  <dc:description/>
  <dc:language>en-US</dc:language>
  <cp:lastModifiedBy>hp</cp:lastModifiedBy>
  <dcterms:modified xsi:type="dcterms:W3CDTF">2019-11-19T01:12:58Z</dcterms:modified>
  <cp:revision>8</cp:revision>
  <dc:subject/>
  <dc:title>2011级毕业论文任务发布暨导师见面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